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865813B-41E4-491E-9820-AF99CEBA651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07FB457F-88EC-4617-8E26-C5F393BA2359}"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ECC5C793-7883-404D-92F8-2458E8325E16}"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8D9F29E0-EA57-4A90-97B8-43C7594C1CAC}"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F7513398-B39F-4CB1-A439-6B77CA838FA2}"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CFC0517C-5636-4D5E-B24E-C66E62608BA6}"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C90D41FA-90CF-4871-976E-59472426A813}"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FE9C997F-618D-4510-A183-590548B4E079}"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08F726A3-AE7B-44D7-AA07-608F96C9F554}"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AD8A5F03-06E8-476D-8335-753A5BB5D8A6}"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235B419E-D8CD-4287-BED2-1F605F1FB62C}"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0928601-0DA5-4586-8124-7ED6448CB8B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9939B392-7183-46B7-944F-3249E9069198}"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00050F99-9A0F-4AB6-88CF-F34B2A544F1B}"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0DBE1CE4-3BE4-4A2D-9625-92663D11D01D}"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B7420821-B123-4638-8DD4-73274718DA46}"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2A9ACD1C-6DC2-4091-BAA6-75583A74914B}"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5A33A91E-EEE2-4847-A1B2-577E2CE7D69E}"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811D0D59-D7BB-4758-B6B1-3E3387195995}"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A89D798D-6A93-4CDF-B3AA-3DD12452327D}"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52700EAC-F0F4-444B-8B41-DCCD2DAF8984}"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71A3EC88-5243-43E2-86E4-1238BB2152A1}"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CF94D39A-D989-44D6-814B-57BD9D16480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3E61A669-B21F-4182-8EE9-3CFBC936F639}"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90B9C3E6-CD52-456F-835E-8AFE9E762620}"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46562307-9BE6-4C4E-ABF9-FB50699D9A54}"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8B1A72BB-0708-4B2E-A1CA-7D02D5B39DC0}"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55534D4C-7B76-433F-8A19-48235B2F001D}"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AC8E7745-5C94-4BA0-88B3-CAA2CE61EF1E}"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5DCED475-E04C-456A-AFCB-3C7B7FB9C07D}"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8423C252-7C95-47B7-85F4-AEBE028CBDB2}"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E0E49DD4-C649-438B-B5F7-1B35A872C2EB}"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462F44E2-2BAE-4C24-8749-53FDDF5B6683}"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710B5DD6-0A5F-41ED-8731-A85F5649D08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518C6D3-5B77-4148-9F80-F73551890F31}"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2037838B-4AE4-4D3C-85EE-58CFEDAE8B43}"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94D8843F-B5B4-412D-8CC0-0FD70DBECCC2}"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0AF1A942-4651-4938-B99D-863F7E4529E7}"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9131A944-856C-4198-A02D-24F21CF78AEC}"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13349A60-179A-4E5C-858B-A38890BC77C8}"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E11A8AFB-672D-4B21-BEB8-CFFCF11420D9}"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F6883E69-D698-47D5-97D0-ACFED894EE5B}"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D4218A43-2C5A-42CA-ADAA-F334704D7E0F}"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DE0A928C-E923-4EA0-A6F8-C43EE7C2BA7C}"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1F66D414-80E3-4280-953A-D65C3DE12A7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3D9EB635-AD68-4F69-8D60-401FA9D353BE}"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30B33305-6033-4543-AF73-294D7C9A5E31}"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2FB59512-5011-4501-8605-D4AF8FD7862E}"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3BC8EAD1-41C8-43A1-9688-B768C1B0B046}"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20726E2A-028C-4BAB-8EE1-6F6B226EBCFB}"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91225D70-A4F8-41D7-A823-D1F5541AD20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ADBC9DED-0311-4E5F-9FD2-ED9111A10A0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E0FC57F8-C4A0-439E-A9DC-8E6C9F48E01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16DEBB42-1D41-4162-A93B-E901C5B4B10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B2368EF7-C635-4621-AAA7-C1D7F769E17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4057C0D7-DBFD-4575-88EF-7D507BE5C0D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0A961A9D-1ABF-48AD-BD82-EB11E04BE2E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F96FB20A-EF2D-4834-B6C7-336B9C8BB80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E568D3EA-F5A0-4817-A0D1-7EF47D505F0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4CA3E73C-395E-4FFC-BE10-6DBE495E17B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4398AD10-9992-4262-B372-DF8CDFD4965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94515F77-4EA8-461E-89FA-F57926D3D18A}"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EBF89D60-6170-4634-AE84-CAF727DE6E04}"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6707B58F-FA0E-466A-AFB0-6EB852A7D6D4}"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1C616A66-6A14-4634-85DA-35118E08F903}"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98BA59C9-03EC-4EF6-8BE5-C8A233D92EFB}"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68096B31-4D26-42C2-AEC2-CCF012C8CECC}"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072217FA-4C4D-47E9-AAA3-12A60E1CC974}"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BE348811-E0B9-4BE9-AA34-4D6A0DD2BD21}"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8E5CCC27-8B35-48B9-8CEC-6F3C6A5A5530}"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A816FC1E-E83E-4DDB-A1E9-84B32F3651BC}"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307F8D28-5E2B-4F87-9B55-68D41F2F253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65C6E-F9F0-4222-BAFE-6361D8BE3B1B}"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8DDFA-ABCD-40B1-B503-526E6964A143}"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034EE-B357-4C68-A4DC-149272671310}"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7C40D-20F1-4E1C-9B7C-48D8FFE5796D}"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251AE-C7DD-453D-9C27-0D24E659D551}"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01CEA-E44C-4D39-99BF-7F3EE47AD182}"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FCB8A-2162-4D31-BE44-9588DA43D609}"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CB90A-17E7-4581-A23A-2A802385FF34}"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6F2F9-5FC9-4E88-956E-5A10F2505454}"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B026E-387F-4A7C-BA2D-2FCAD4607746}"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