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DD412ED-19A6-4033-96C5-49898FFB0C1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39435BED-F6E8-41DD-B0D8-82E1AEF5D587}"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168692F6-6913-43CC-9C9E-A8A090575C3D}"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A58057E7-ADBC-4A81-8A73-1B14F6940268}"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4D5A70F7-D975-4DE6-91DD-2B76DD268187}"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E68187D2-439E-48ED-BF89-9232CEABD8A0}"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F20B15F5-A028-404D-BD47-A64FD9F4D562}"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8943C060-04B1-4B66-8F65-8022DF62DCB2}"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A65BACBE-9863-4350-95A4-596B80740593}"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3070A004-1549-41EC-8D3D-9EB0AF84661A}"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80B7E78F-4ED6-4EBF-AAD4-9BE2333EB690}"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00869DD-999D-473E-862E-374A05E92DA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F8B19DAE-C59F-47B0-AAD3-70B85FF4DD96}"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A4EFAA39-E7D9-4770-8FF7-84189494182C}"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DDE828B2-B9A5-4C22-A1D3-008DAC10B33A}"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6D6E58AF-E269-42E7-B66D-29E3FA412FE3}"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ECB314F1-FE0A-4731-BDC7-63DE6A9ED926}"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69C70804-20FB-480E-9372-979F8960C4BE}"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B11596FE-A879-4D3C-B93C-66C0E84C637C}"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1E240009-DB50-494A-BAA7-76559C77BB38}"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1C8CFBCF-827B-4E5C-A082-1B846C98A7A4}"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86679958-2102-4902-93D8-0D0A9745FD4B}"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21172397-53D5-4A8C-AB16-7CFF5A801B2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08254A8D-0334-478C-823C-AA00F6280926}"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43ABE9E4-B616-45F6-AB75-13A48949C02B}"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B635A5DC-76A7-4D5F-B4DB-9F5E551C6D9F}"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D4183598-A0A4-4B9A-900F-12FE5C612737}"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23BF602D-ECF8-4CED-8D57-328BF23628AB}"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1C33B8C2-3D59-442C-BAB3-73F84A283F10}"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3E5AF2C5-5222-4FC1-918A-B269A365848A}"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D7935A3C-7A53-46D8-B166-B0F4409CD503}"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D3FF983C-29FE-4683-BCD7-3FF7FEF00298}"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D942ECC0-678C-4647-B8BE-EC206245982B}"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358924C2-3140-4F6F-B26D-B995B06389E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9FA2ED5-0F3C-462B-8A20-2788A7804B6F}"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2165E035-23C5-4CB8-9383-BAF011BD97E1}"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9E5558A9-38B1-45BC-A190-70FA5AAA8C2A}"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D213BCAE-20A6-4817-9CC4-4324FE677299}"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D152C052-4B6B-4AF6-9A6B-D5DDA2E7F634}"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7940B529-B9F3-45F6-8BE3-2A9DAD77885D}"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C21D8487-6F51-415C-A161-4F7754BF102F}"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0407CFA9-0892-4B75-B0FE-153EB0DCA025}"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BBC9977F-2D88-4204-BABE-3D4110789BB6}"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B15C552B-709F-4D33-8734-7341405AA45A}"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B3A7122B-79CB-4976-9C39-1FF51763959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76CCF793-3C2A-445E-8589-FEF5E1245BB7}"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E15C1FC2-BB42-43FE-82E0-395168E7F413}"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9219A232-ED2C-43C4-B09D-7C7C2EC16CAD}"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9FF3AAA1-AD39-41E8-90DC-EAE7D325DF81}"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21405967-4C1C-43E8-9CF0-740ADC33C601}"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F6AB5FA1-10FA-418B-A7E5-B9352913EBA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174CBB94-9027-4B7A-8590-9C499FE3578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17697983-E516-4524-B468-294389376A0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61D8FFD1-BB29-4668-B729-A9338C8371A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C762C31F-6FA7-428F-94B3-0C74BF7F174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B4D3839F-A7C8-45CF-9961-D3B9D1B6B00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CE620ADF-799E-45D8-BA99-8BB8F000C40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76AFA01C-6F2F-43B3-8B25-C5EED578E6E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DC0A6E17-BC99-44AC-8A7B-B5D3A043022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6371CC2C-9439-45F1-AEDA-10C7F58C14B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62CE2AD2-9EEF-46CC-8496-05D755B54E1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563DF4FD-A5A4-4A02-AA54-B2211279306B}"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C9471F11-A46A-43B1-A34F-105EA85A2D4A}"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7017DD49-E9FF-424A-B504-4EC3113A026D}"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67E6BA25-7B29-42B4-B67B-3D5C886058C1}"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A96887A2-ED09-4981-B784-70EE65924E30}"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5876520F-C91A-4F95-8FB0-A4BE17890448}"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9EA4D64F-D891-43AB-BC5E-3F4172D1CF9C}"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8036A259-DAC7-4831-8F9D-C8A161939921}"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40C8A11A-93DB-44DA-9E18-9E6BF353A03D}"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EF852DEC-B1BB-4D0C-99DB-84D72DAA107A}"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A665E925-3DCF-4404-996D-7D74369FC61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215A79-31AD-4F03-A8FD-1BCE695CFB7B}"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61D830-12E4-4B2C-924A-C994BE76F12E}"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084D45-7576-4E2D-BA7B-0897B62D67C4}"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9A65D0-CBCE-4B65-BFFC-A75A86A758E7}"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83DDBF-612B-4601-874D-00F570D27F7B}"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0184A8-27F5-4174-9239-5B82CE6185B1}"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A3C420-15A7-4097-9569-9B9637742661}"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6F5023-A9E0-4C0F-B690-ED4C6E9203EA}"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3D10F9-6B88-4021-8049-1E49FD1A826A}"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38CAC5-D44A-4E46-905F-84D038627287}"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