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E119230-FEDC-4089-A446-CD5050F51A2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318D70C9-B224-4132-AADE-A672F2EB13CE}"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86ABA45A-2B24-4C8E-A16C-E108C27367C1}"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1EC2853A-C3B2-408A-8F5B-4113E8D5CF68}"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3F0D4D2E-ADBA-4F39-996C-A4F99F3B0848}"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343EE79F-4C0B-43D5-8590-49773F0B711D}"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3DA4628F-BE5E-43CF-959A-1BC186FE0E17}"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FE81A41F-23B6-4A20-80E4-E0441D8D3421}"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DCB26E77-1798-49DD-86CD-529CEA9C25A3}"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97F0F990-D04A-4BF9-AC9D-99F337D9F3FC}"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0961F01C-23C1-4314-AB47-4E45BA37C98B}"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17A0A18-0010-41FC-922B-2DC3A1152D8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C0E49116-7C7A-4C63-B966-E47F71D8ABA4}"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B6DC753F-9DD0-4180-BE12-AB662B53E728}"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CCC2E463-70E4-41E0-AD51-7CA0E4382C39}"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CC97DAC8-DF1E-4FE5-896A-7D308D76431D}"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29D78574-F536-4D00-9AF0-2AECA01F3ACA}"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64E3305B-0E37-4CD2-AF07-FDB4966FB236}"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655F8FFD-2818-4008-B8E3-13EA839E5E7A}"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F7A12445-2C1D-4BDB-956D-FD9829CE353D}"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7514311E-A1D8-4D58-A19E-611D3D9721D1}"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004E475A-940B-41B9-9B7C-528240FA7A40}"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E9949DA0-2C70-4F49-A17D-46613C1BE74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BD6BFB52-0440-4CCC-96B7-E63B501AFF59}"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FEC01688-502F-4BA1-A1D9-B9139184C678}"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620E0E16-0092-4510-A8C6-1F77F7C5A7C8}"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D1FE8EBD-0F2E-4941-9452-506290D3BF9F}"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F09AF3F1-E00E-475D-9742-3593B02CE3F2}"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504D679A-19E3-49F8-9EF2-AD1694DEB1AB}"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807B3F3E-D4C9-48FE-A39B-2134A0404610}"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23B9CA5A-2964-4EA3-981F-FCDBDF409C33}"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1AEC1AFF-51CF-42DA-90E4-EFA723143E92}"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4B47812A-FA55-4C32-B903-511609B6ADDC}"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A76A6ABA-0C2F-4921-8CA8-52D39BEB927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22437C1-E27F-4CBE-90D7-C90E614D8390}"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70AFBB99-244E-415A-AD21-83DCCB0CBA98}"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8253EF9D-9B9A-4C73-AAE7-AE06B3F31F6F}"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A7D28CBB-6BD0-4350-9D17-7C4D25FF13E6}"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8DCC8E08-1149-471B-8AA0-39C75F17C4BD}"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35FFA490-3262-46ED-B6FA-43E42EA4C6E8}"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E0A8E3B1-CE12-4AA0-8D12-9FE4B78997FD}"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66BB4005-6E29-4254-91B5-231E9118440F}"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15826F92-A7F5-40DF-86E7-A2D392AF0514}"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723485D8-431A-4F84-A904-59A17E6A8DE2}"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6999D1C7-477B-4CBB-B982-79E1CB2DBA9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DAA5078B-6D2C-4F5F-84F5-F3040A121397}"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406F56A1-8F7F-4F13-B467-3A91DCC94E9E}"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0634FCB9-AB08-4A6C-8738-4273D9AAAF7D}"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0B817210-76FF-41DF-A20C-2001EE459623}"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BD5FBCE6-AE1F-4BB8-8E33-189A5B3507FB}"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4F8050E8-E6A9-468E-9A2B-736E34F11FE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8D2DDA6C-DC0B-4138-9BF9-71810E06A5E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17F48A3F-22E1-47C6-BDE1-C5A2C4DE6C0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D96D4FE5-3582-4D23-B116-3ADCADFB24B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75FF3B9B-0C5B-43EA-A8CC-437C6C0ADA7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86A0CCD8-829F-4E9D-9A39-B8D34378D01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D20B36A6-9327-44D7-9C65-98C4CA60D6A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6A5A40B9-1422-4C93-90B8-0E2079F0E85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B933B8F2-62CD-459D-865C-DD129BEAA8A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97F03BF4-ED80-426F-8C3F-DADC3C3E283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8347F15A-8FA0-4A5D-B331-C2EB8F055B5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736516A7-37D0-4A00-9CF9-9DC9701A3FBB}"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C62E278D-EAC9-4113-BFC3-B6C4A2FDB678}"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EE4BB60E-32B4-4E2D-88B3-52C3F42360C2}"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12339E1D-73DF-4399-A17C-23A628BE761E}"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F1F9011F-DC0B-4F38-99C2-9494D2B4173A}"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C5A83CC3-4AB6-4B49-81C2-AD90F9DCF2AA}"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52AE4FD5-4CAB-4718-A6E6-F52897DB866A}"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B8F54F3D-A322-48A3-A7C4-C72DC81E8674}"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C7E41036-D79F-48B7-B95E-D6A67DB491C5}"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8F359202-555A-4412-8A83-DD5F09FBFA8C}"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5D6762B8-BF2E-4FF4-9327-7FCE3EFA021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169BA-E973-49F9-93FE-02F77A9ACCBF}"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624CB-65FA-49DD-AF63-CED14B6477D3}"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22485-E3FA-40A3-8B83-39986510FAE2}"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77E72-600D-4C17-B098-5127FFA4C124}"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2C782-494E-404F-AF21-18CCDBC1F336}"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0F35D-2C09-42F3-B715-2F59F4B082FB}"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B30B9-CDA4-4787-B6D0-04D5388FB0A3}"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B3BF8-E286-49FE-96B0-758BB565074E}"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7EAC2-8DEB-4BA5-81BF-72DFEF611E1C}"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A5554-890B-4BD6-956E-8A7393B04E59}"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