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F64C890-C51D-4E22-B126-8EF6E4E95BB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DDEE4B84-02BE-4942-9019-6E019FDEDC5C}"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1C9CB0E7-80C8-45D9-A2E0-897CDD2A9C29}"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0D5904CE-7EF6-48AE-A29E-33FFACDACCF2}"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B65D4DB9-7547-4554-B622-F5EC2900294C}"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1DE83E12-51EC-4BA0-9606-14BDF43AB867}"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4E17896B-3733-48FA-A38D-C23F5276424F}"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36B2A499-5C4E-40CF-820A-904A65BDED22}"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139DDE77-914C-4BEA-9DDF-AFDE39ADA04A}"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CED37962-52D0-4855-A33C-8601DD58C066}"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0110E847-34F7-449B-96B4-2BB4EC57DD93}"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43238EE-8B87-4D0C-A008-A5BB2B6B030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B8364A73-DA6B-40C0-A456-3D023DA088B4}"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C0F2F737-B33A-44FE-8282-77E6450A2DC2}"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BF902696-F849-4772-9227-7F241DB525D8}"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AE78C7A8-AB40-4242-9481-69EF0237FDC9}"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A044FD3E-3470-445D-B992-ED19C55020AF}"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9F344BFB-D62B-4F81-AC55-B2456F79DCDA}"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5972F7C2-ACB8-474D-98E5-55966C5E91EB}"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3EE59270-EDF0-4680-B0B6-6A2A53B960FE}"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6E4AEBEC-7D9A-40E4-A270-04D82C7595BB}"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D5C5767B-BE52-4340-A572-0E91A7B735CA}"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B72AEEC6-3D2E-46C4-98E3-A5AFDE51D22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84CC62BB-13BD-421B-9024-E0026831D858}"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294E66D0-D580-42B9-BB59-C906C9763FCA}"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EE2D80AF-AF28-43B3-9A2C-F8DC55282ACE}"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F2E158E0-BACA-4251-B6CA-8035FBF605FE}"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09F49930-71A5-475F-B332-38D919B614F2}"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0C454667-D0C5-4CD4-A697-41A12EB1A0B5}"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C2B369ED-B6E5-46EF-B52F-5ACF3192495F}"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992CDB54-242E-47C3-81AA-6AF6A295F187}"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C75D26CE-AED7-406F-8683-3A7AAE1AF1EB}"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AC932FE6-B47A-42C9-93A6-B2E9461DB2BE}"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7BD10D9E-7A67-4939-8BA0-4F8E2A40A9A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D580619-92F7-41A8-897C-D765D106CC3A}"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79810CDC-D117-4D88-85D9-F9C8A5C55D80}"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F4B95584-A5F8-4F26-930B-E37CFF0243F9}"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412D53A5-0B7C-4D69-AD97-0113FF346A4C}"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59B4B6DD-D6DE-4169-96CD-2846C58A9B85}"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E047380E-EDDF-4890-A238-BAB2AF7690AF}"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23ED12AF-DD29-4B22-996E-8A1D988B439F}"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A25AE103-A543-477F-BEC8-1F160B0E724A}"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80C4A8BC-B81A-486D-9D8A-C1F26E1BFBD7}"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998DAADA-D9C4-4948-A69F-5DA3A9B0C6AE}"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0EC6C0E0-AE78-43E2-BE2C-F76DEA0BE3D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DCFB7542-E0BF-4768-B9B5-FA4D9BE3368B}"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719A4EA1-B064-4FD9-A780-2002950EA351}"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1151B7F5-96D8-4BF1-AFCB-240A3CD19D03}"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95C70A0E-0514-4245-8517-1A9321ABD912}"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FE9EC7D2-9AB8-4CDC-AFC7-964AFD6C1215}"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861338A1-2814-4653-BACB-A1594D481EA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04B110CE-8F3C-44AB-96F5-E79896F5598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76C57190-1915-4D81-9FEC-EE51C520A6B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50996DCC-06D0-42EA-9D45-8933E32F721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E999E2D1-05D2-41DC-A8E8-609179E8DA2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02191BE8-C0B9-48DF-8011-07ED662853F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3CB0AA12-BE34-446E-837B-7B5A4CCFFA6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28B07A4A-E8E2-4119-A623-CD6CD0C56EF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899830DE-5EBE-48D6-ACD3-8DD1DF7F855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B2F0F997-BEE1-4787-8BF9-BD056687061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BC7A2F34-6ADE-4E23-AB40-B29A93892FD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8ABD3B48-729F-42E2-A744-755B2F292FD0}"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D6249642-3D6E-4C18-AA1C-248C9FC5595F}"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74B21610-C2EE-4B92-A241-9A209E0DBCFF}"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5339FECA-B2DC-4DDB-9A22-F84F88D3AE2C}"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A17C7D04-3654-4F05-9314-7470CE2F2763}"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24AFE33B-93B6-46B1-9CAA-B68295576BE9}"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31699AD1-9871-426B-8E51-C8E9A6341EBE}"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210BCFCA-B454-4EF2-B35D-4B1A6648029B}"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CC14F753-478E-46D4-8D5E-B4176CD8FCD7}"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203C3320-7DDF-42BC-AFED-B1C22DBFCA86}"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110FBDE5-9CD3-4F45-81A5-A14D3F8DEC0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C972C9-B106-4E05-BE7D-102D00F84CB6}"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8583C6-9A0F-4348-84B8-7054E3CFCE94}"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1CD09D-02F7-49FC-AF3F-2ED8B855E205}"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2F5FD0-79B4-4394-9B09-D40A3B15120E}"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1C5479-6CD6-41E6-B2F9-EF5D267D47B9}"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12B8BC-96B1-40F2-8316-F3BE05400800}"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A2C0A3-AA2A-44F0-961B-500EC3448073}"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DC3017-1089-4018-90EB-2279F77BBEAE}"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CB2D4C-CF0D-487E-A7D9-EE57E9926FE0}"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1ADD14-5035-482D-953A-94F81DCA6659}"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