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9392193-53D2-4CC7-AC3B-A7730611F9C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6A8F43CD-C3E9-4D8D-9726-2678CF1652EB}"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81BD2F3F-ED1D-4FF8-A4B4-8C3282C86A42}"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66FB120E-83C3-4FF1-AB5D-F950A7CC6602}"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019B423C-9CB2-4FBB-8B1D-F880382D51A9}"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A6DCFF6B-775B-4593-894F-89B7C3CDA97B}"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F7AFC582-BD96-41F8-820C-393849F8747A}"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08961DCF-F1C0-468D-AAAC-B10B25F54EEE}"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3BA28DCE-5136-4152-B3B0-FAD5E430C000}"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03FE8954-7DDB-44F6-B9BC-C652623EE8B7}"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4D9FC2AF-3EC6-4A00-83F3-70BD22D73E0C}"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39D5482-2DC1-49E6-904C-7F410FDECDE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3B7248E2-406C-4D39-B24C-A28899A29833}"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EDF5B010-ECE3-4C37-BAF8-ED71E7A9B813}"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27D7EB0A-00DB-4A43-8F59-FBC0AE2BA157}"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C0C91D96-B2F2-450C-98D8-0EC92439707F}"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4D777B01-0427-41A8-96AD-D2ADD289C293}"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579B6A0E-2173-466D-90EE-5792A3BDDB4F}"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4F3D60A7-ED23-4787-A65E-8E113B15DD00}"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965B84BB-D481-4850-86EC-6893C708396F}"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C122DA7B-6FAB-4E2E-B327-D3A0E834094A}"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DB629B47-DE29-49FE-B9ED-454D1D442994}"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8BBEF418-4A4A-4B91-95F8-06693CF6187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8F395490-ED08-4536-A1AC-7DCBB0D1E51A}"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8A0E9DF7-49AB-4608-A44E-472ECE64F7D5}"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D95D806F-BC63-45DE-BF21-264906C33D5E}"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72A65B4C-FC7A-4C93-9B52-C70D0AB23313}"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A0404989-B147-447D-9347-F1135C5CB815}"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83DEDCA4-377E-4ECF-8BE9-5F0E4877DB70}"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091052F8-FC60-4C82-B437-1F209B25F5CA}"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06757653-C1EA-4603-88EA-74C5CB4B6DEE}"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01B1F4B1-8188-4D96-9A95-03DED0C5010C}"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7DC3C929-A9E6-43A5-BF37-DDE6309524AE}"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C3582238-BD23-446D-BB09-F6287771A38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48D754C-998D-43D5-BFA6-1DB5499212E4}"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E76D3137-BDC7-4657-82CA-684C501F5BA8}"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883E9188-88DA-4F3F-8FED-40C925568692}"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EB9C8449-D06B-46FF-9539-4DCB71FDC7F2}"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4DD57D02-A846-43B2-AC03-B1225D6363A2}"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A66B5751-F0E8-49D6-AB44-8D495246A0CE}"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ED8B5768-1FAB-4581-87E7-B0875E352814}"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CE4FB5CD-6834-4508-9862-D28116A5E75E}"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CD29B9BC-1C39-487F-A895-89E5AB6C4340}"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3D322EB9-5A8D-47A2-AAD2-DC9E1D48D073}"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26888B1D-6F89-405C-AEA2-14C150E4DAE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5BE57DE7-4726-4E28-99D6-CF35E76ACCBB}"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BC44204E-F74C-4F2B-9695-4A52AF1FAADC}"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218109C8-AA81-4C5B-A7B4-93CDBB8D45F1}"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67452137-7A40-4658-9D17-E959202AD535}"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9030AF9A-37ED-4DA6-B1C3-B907EA261981}"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991F1832-09B1-4E79-84CA-F530F6838FC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63675499-672B-4D6F-A518-C61F67E01AB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65496B87-A6F3-4EE8-94DD-E5BBE41B661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0032EB97-F43C-4578-9D6D-E606F3AA6C0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B29BB61E-EC85-4D0E-840F-72F60EF06F2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99EEB2F1-B67C-48D8-A2BB-9445A2D0946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F4F18550-4677-40B9-A581-4E09C2B1492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173CF8A5-AEC9-4FB2-9D70-FDB7E11517F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B7FA8074-45B9-4DCE-A0F4-210DACF267C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983D1D04-CD10-4D87-98F5-32D39B01810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7866CB61-BB35-4A55-B494-06102B45455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44B0DB96-C545-4C77-A0DA-EF705ABAD73B}"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B6D81C6F-4321-4E01-8D87-9325BA9B3F4E}"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68820211-CD24-46A8-8011-7814A4B30367}"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BFEFEFC0-405B-4E31-A6EF-52D66BC2E226}"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6E0C8202-CA61-436E-BA09-4D2D3837FE11}"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0EA342A7-AD0C-44C6-A8B6-C7668D3F7459}"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F517D201-9E37-4D69-A9F0-730C6722FB88}"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90705039-1444-433A-94D6-E77A94C3D6D4}"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B5809572-8BEB-4242-B110-72FC1A6739F1}"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51A18A38-FE61-45DA-B527-3F8CA1601543}"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A2822F74-917D-4862-B34F-1FD31E076B9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F5D429-310C-494B-887F-DE368FE7ACFC}"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F589CC-FBC8-4E3E-B75D-F44E6A311523}"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52E831-C1A7-4DAC-800D-A0D1C3181173}"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F0B41F-0AF2-473F-89E8-4AB110B37756}"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CA832C-CB6E-4585-9D2E-2CFBE90ABC89}"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CF0D79-043F-499A-9EB6-8146E610CA56}"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B471D3-2317-4223-8629-E76B664FCA22}"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56F5B4-31F4-4516-AD97-86412FF224EA}"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6A5432-C7E9-4EFA-B963-778C1F545466}"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EBDDCB-32F6-4AF1-A52A-FF92B2FAD1C6}"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