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2064C63-5654-4C9E-8A70-148E13644B5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E47D076B-CA45-4F99-B740-1B3F63597BD0}"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6665D2CF-F9A9-4974-B5FC-EF92ACC09047}"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8D14D85B-81C7-4149-BA19-D48F638ED8DA}"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6A463517-403A-4144-BA85-C1746931ABDE}"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7ACF3FD1-4993-40E3-A41E-345EEE383CD1}"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A70AEB0D-9837-44CF-A4AC-A507837A2F7C}"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B63BE486-85E7-4036-A167-6CA54600CAB4}"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3C810D3E-A048-43D9-8CC2-CEF7341CEC3C}"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76253B24-4C0E-4862-8C8C-450543F0FAB9}"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8F072D9C-0B48-4506-95DC-CAA5AD59AFE7}"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12754D4-EDF6-4459-AA75-5A6AEE0B12A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2D8E90C2-7EDD-4D38-B0F3-92F81FCC4177}"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47A49E86-F474-412A-94AF-4E47AB89714C}"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9F947F37-C093-4939-8DA6-AA54B643A3AC}"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C8C54FC2-8D88-42F9-B39A-A3FF465F9D54}"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857EB4FA-61AC-427C-83B1-358C3EB9F4E7}"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F47CB0E0-63E4-43EA-957B-1AAD3B6B617B}"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2367E679-55D8-4BB2-9E46-F2E440207583}"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6AFD5240-3C7A-4A3E-A2F5-C3FFE4CE338F}"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D98FDED8-FBD3-4C99-A052-1F7DD1C74F1E}"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442D776E-CB05-4036-AD12-C1B622E81FEF}"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37AF2465-B139-4B2C-89B4-1B327F31BB2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D6998C99-433D-41AC-A8D6-71136B49276F}"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5C23ED33-DD34-4A48-888A-8461A89F761D}"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3A31C7C9-91A7-4B79-91B0-3ECB744315FA}"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929AD32B-7DA3-4AB2-BA5E-E7C0FA83E8FE}"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971026B0-CBAE-4FA6-A4DE-DCDEDC3E4223}"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07074F8E-EF60-4B83-8713-55A4FB85A5FB}"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4F4404D3-E76B-478A-8F2F-C99F2234881E}"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81773947-319E-4541-8615-ECCF68DB48E1}"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A3C98784-C36E-475A-ABDE-1DCA59B2D052}"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F3F1BF80-F3E9-4A91-BE3B-2766737ACDC9}"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A994679D-DC86-4417-8BF9-087EEA93746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286D3DA-A207-411C-AE56-414856E104B6}"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BB1B423F-B5EB-4AAC-B68E-85DA253955AC}"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33472628-EDE8-4E95-85A8-3C2230A01762}"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3EC26B52-DA87-46E5-8228-065B19E3A0FC}"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D4FF1EB4-D7CC-402B-BC23-C4375ED033E2}"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F42A161B-8B24-4D45-B990-82E8290AE102}"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9C893E90-8E60-4BFD-B132-D3743864827B}"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D3A2EAA2-772C-450D-AABF-08D46550B30A}"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25FE98F7-0B94-4265-9E42-1D6A85A5A0BC}"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6D5BDD2F-800A-4837-BADB-7624EEB9ACDA}"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68F5FFF7-EF3C-43B2-9A20-01D24809177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AF02A940-328B-48FF-B71D-858BD4AFE3B1}"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9B1A38C2-0D41-456E-B670-BA466B1D91C8}"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4EF17992-1CA7-4897-B023-D5A549BE51C6}"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6DF1A5DD-70FA-46CD-9E62-2E8133CDA1C3}"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9844A59C-E75B-4408-8C42-CE5A4B16B9AD}"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F84D6377-1F88-4DCE-9C68-EE095D88881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BFEDB355-02C8-4985-9C09-C24B60AC214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FE9731D2-444C-451A-9FC1-E198B43BB3B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28339224-4639-4C16-956F-A445D4EACF5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7E247B5E-E439-454F-8B44-16600001A75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6F5D66FE-CB5F-48A1-865A-20C29F8A1AA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F2539663-AB69-46E3-AA6B-15EE5AC2031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E868EA32-7530-4CEA-AA1D-2EA4C89C236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E38502B9-BD1F-4B83-8AE1-AE405AB2CCA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71496E83-DD2B-4460-8D77-E0EEA3841AD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5FF88CE5-8B35-47EF-9818-58D3F0DB4C7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D59BE232-3C66-47DD-B4C2-066C63BED412}"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1914E473-8D39-4E2D-8C9D-9958645C54BD}"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1C0C1E46-E6AC-4D14-8AB5-23576B81B843}"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96D9E0CB-7700-42CE-A8FC-D98367BC3531}"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23720B0D-D676-41AD-A116-AF4CC561DF17}"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FDD678FD-E8F1-4430-AEA8-B2A80D828A1D}"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95F37E15-DF98-4F9D-911E-7E10F1F0B700}"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7C17EF0D-41DE-48DD-8787-CF08A9FA621A}"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575E24C6-D2FF-4EF1-8FA3-BCAE6B5DC61C}"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E74C2339-FBFC-4948-B423-6DCA340E6AFC}"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CFE32FDD-443C-4643-A0F7-279FAC39A22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3507F6-5878-42CB-8637-4B977ADA7248}"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CAD01F-714A-43C1-8084-57545C5EFEFD}"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E290F6-165F-4232-8D8B-B57F2C0CADBA}"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DA1E74-7B1A-4DEB-BD70-05FEDC05DF85}"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869B2D-C4C9-4186-A792-161EA83BCA7C}"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E6DA89-3242-4D35-B167-F00F15546CF9}"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7943C9-94F5-4BE4-B99C-50BBFC4168B0}"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4B86DD-ACD6-48F2-B8F1-24AA4C81B656}"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F26011-A922-4507-A067-DFB1CD86B3BD}"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DAA729-0613-4BCD-AC4C-EAA2CC5FC5EF}"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