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50A10B3-F6A2-493B-8681-5C54511D306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06E3265A-07CB-4BD3-8839-738A75455A78}"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63334FDC-71DB-4F2F-8787-FECD88EEABDB}"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9E6AE0FB-E82C-4A91-819C-49DF540122B2}"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437CE828-B1C3-4AEB-8137-51EC9ECDC05F}"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562B9D82-E68C-4C65-AE55-A18AD6F3E9B9}"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A046A617-0460-419E-BA17-72100F818285}"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CE3E244C-B3C0-4FDA-B7C6-504A8AD5F13B}"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5F6E5371-336B-4A4A-B1EF-85B2416BEE6F}"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AB59D873-94F1-4A4C-B218-05219F9DEF08}"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89C3F3C9-563F-4197-8D35-60FEE8B670DB}"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166431A-608B-4D2A-9227-D5341FB16CC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24889497-90DE-427A-89C9-B250374F627E}"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3C238C48-7EAE-4933-BDAA-3D0630F666CB}"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BC44B43E-CA1F-49E1-B1DE-5F747515BE41}"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136AE9C1-D29F-4930-A127-DBF1F825B87E}"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DF1D345F-83AD-4781-9037-C407DC5BA276}"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1E0466EB-C33C-4751-A671-A163BAD1A546}"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6A51C9D1-B520-4C76-8B9F-6D249BB0699D}"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158A13FE-46DB-4ADB-85F2-E0329199EAEC}"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AB3ED5A8-93C7-42E5-B031-FB224C92242D}"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B52EBA3B-0EA0-47E1-8FFB-F16075FA0B80}"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0332B874-8249-440E-AA27-BAB1924887F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AAB35AFA-1A8B-491C-A151-B8FF68BE3963}"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0939744F-3FD6-40C1-9549-F6E9503BC9E4}"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3761153D-796B-4CC6-A6CF-2BDE26108704}"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7E388BC2-847D-479F-A7C6-E7A0CB85FBC6}"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FCDCD25F-2602-4172-98CA-668EEB4A367F}"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EA46C421-73FC-4233-ADA0-236D286FED67}"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AF8AFD30-3C9E-416F-909D-CF395041841B}"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A72ABF4B-0386-4387-8A60-EB958522CED0}"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46A1FA06-5C93-4DB7-A953-5CC02AC6EFCC}"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9E6C2417-0900-43D3-847A-B7DD93B1228E}"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B2E17167-1D6A-4B5A-87CD-96016C0D38E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E037593-F9CF-4234-A860-EDDBF35F94CF}"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4C414DF3-5521-4C56-9F7F-7CD241902785}"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C290F111-BAB6-4685-91BF-5474A6E97FB1}"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2359A303-63DC-47B1-A61D-00E26DC21CF5}"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88C989D7-2A0D-4805-AC13-0F4268EEE1B6}"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76920758-AAA0-460A-846A-CCAB75CBD82E}"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B10AA36E-8D3D-4F19-B90C-927FDCBF0C9A}"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B369FCF8-C02F-4E18-A2D0-7F35DBC057AA}"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9E442F20-F4FD-4B2D-90EC-D3FC146B4CF5}"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7224EF43-18C7-4902-9ECE-117386174E9F}"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8F07C666-BA9F-4EE8-AEF2-C70B64F4BEC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BBFD4C0D-29D2-4BDC-989C-F1562C183E29}"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7D85514E-314B-40FF-9893-FB72A89330C7}"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330B31DF-F1EB-4F2F-9095-C193E538E818}"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C1FA711A-5712-44C5-8D99-46E54D48C191}"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A94EC889-35B3-4EA7-8503-F08D47ABD73C}"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EA450841-227B-4124-90BA-39987FA67C4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D6E220C4-D65E-45B7-AB42-9C48C930DF4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5C918D0B-FADA-45C4-9BBD-CC8BC432D17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CDBF7452-219D-4910-B77C-7E8FC048DC5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8907A65A-EA84-4DD2-A1A4-A5A856C9475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09CB5528-FEC9-4D3B-A7CE-B8B884ED5A1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3D04CA31-EE3E-4D7E-AE83-0879F8D4951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116A4440-9394-4A0B-90B2-5926CED5F20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1BBAC120-121B-43C2-ADE4-41C5535102C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448ABCEB-CFD3-4AEE-925A-CD02886BCD3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CB5B0AA8-5287-40E2-A944-8C7EBC7B256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8571CD4E-545D-4771-A7B8-61B2D41C0078}"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80FBF5EA-A4C7-43BE-BEA7-6FEABCC882C5}"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2D2021E3-E76A-4B3B-AA0B-D7CD7B3B812A}"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73208BDB-F30C-406D-9884-6218D2266B05}"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AFF40244-695E-43DF-9BD6-662A0F43490B}"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86CCAC6A-D8CA-4A6A-9CD8-0F87FDBABF45}"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E4A1DECF-0C71-48B4-8DCE-95A369E149F7}"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66B8EBF3-7EA8-4BD8-BE72-2B926A5E506D}"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5D94FC3B-1D17-4826-886E-77BFE2D2C6E0}"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5B6DAD75-4CD8-47A3-A15F-AD3E6C14C398}"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AAF076EE-3B72-4685-AD7C-48C38246436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DF3B28-0616-4CCF-B1AC-738EF6591736}"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9833A4-63E6-4693-B769-385DD1BB0073}"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DC5AAE-A1AE-483E-BDC0-D65CDABDB453}"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EC1516-30A2-473D-AFF3-4E19FD39696C}"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42779B-D214-4A00-96DA-FF3C9CB7A1E7}"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4925FA-D79F-4D25-953D-C7AEF6E1A397}"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4AA3D8-A011-4EE3-8EA8-855545F809B9}"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1DE020-D774-4956-A6A2-95C538787A51}"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460756-03FE-4F4C-A1E1-CDE0138C8ED6}"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9DF9A2-279D-490D-9E08-28A266E0A751}"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