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03061ED-9EC8-4BD9-A8DC-AF207357A59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3EDFB19D-5EDE-4454-90C6-AD0926E21047}"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251E9653-0FDE-484D-BEFB-6A2CE47A74FF}"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03CB7C23-477F-4A2B-99C3-05A86F8A33B9}"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90D09A65-5704-4C0C-86B8-41D7306A6D97}"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9C2CA6C1-9F0A-4C2C-B26D-A3B776A3AD46}"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EBDF01D3-728F-437B-89B6-F8BDC52373FC}"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C59547AD-F649-4EBD-8C93-0440825A147B}"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576BB3A6-0AC7-44AC-88C9-3DBFEAC98834}"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91789989-605C-4828-88A5-A27F1A234644}"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37543560-D717-4D4E-8FE6-DE3667155E70}"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E7B727E-E83E-478E-AD2A-D11D6E0D554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F12202E4-9AD6-453F-B523-3C6F32E56390}"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3666D428-1266-46BE-AFEF-430A7DE5FA24}"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AE7DBE20-B2AB-4EE0-91DE-C8304F62FFB0}"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55D5FFFB-CEBE-463B-BE47-BC465108F471}"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B39DECB2-DDFC-48B3-BB07-C83CE9A4ED74}"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499E0C93-F509-4CB9-9EBB-9DDF9E6E40B4}"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C20BBFFF-DD32-40E9-86FA-AC800CFFE4B1}"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546DD95F-F405-4144-A5F6-6BDC1D035090}"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390FFBA9-816C-4411-94A6-248137C597E3}"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FBDFF550-529F-4BCA-BB01-14D9166F168F}"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4B6ED707-95D5-414D-A488-006DFF47408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215104CC-72C7-4F9A-BB48-7DF97D25B4D3}"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98F1E8D6-4DEF-44FC-BF98-AA0412021528}"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38782649-ED9A-431A-BD8E-AA85F3EDE20F}"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B760C057-9BB1-4130-97E2-F9F2C40B31EA}"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CA7471C5-2523-4ACD-B5AC-D3DD43AEA1BC}"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471087AB-72B6-433D-AD4E-653AF6BB59B2}"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1EACE9CE-8790-4382-83A7-D1FF194CDC4B}"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B883C4CA-0E17-494A-9D22-31F035973929}"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85239570-E9A2-4BF5-BF35-CA76F1AF9694}"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27A79847-1659-447C-B1FC-647435718ED4}"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E90C77FD-D1A0-45ED-AFCF-3AF72F33BEA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F8B5790-203E-406D-822C-09A28AEFCBC2}"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BAD1B8A5-F801-4D8B-8170-B8B9A253EACE}"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4A9DE5DB-1A15-4592-ACA8-2B6311DA51C3}"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1C4FAC67-BF12-4A1C-B21F-41E85C618916}"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403CFC66-53DA-4258-9017-42C37A1BC7C1}"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97CCCCA9-0686-4A55-A870-7C914FCDE0FF}"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E76B77A6-E5CE-4AD1-A4FD-CE3804D58FC9}"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601047DB-9E69-4565-A81A-CC85259BCA7D}"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CEB8E6AB-5D2A-478F-B3B3-B0C1EAEDBCDE}"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65BD3C65-8EDE-4547-B24E-730360D618C3}"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9E1EF816-D2F4-4313-A387-D3E3DBEF006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410245CB-6FE4-4B0D-AD27-88662B3E5D2C}"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BE27F5B0-CACD-4BAB-A26D-8634EC7066E1}"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A515D289-2FDE-466E-AC88-EE525C8162E1}"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BE844666-F86C-46C1-BA27-F1A91C2AA7D4}"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C384BE61-11A6-4C86-A30F-FFD7DBD51C3F}"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8D12A8A2-4F1E-4AA8-8686-D0AF8058B2B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446289BF-9140-49F8-AEB2-2EBF4210F46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2A7EFF08-4811-4585-86FD-D9A5BB27467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C73917DF-81E1-4400-86C3-A975C4C719A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99657C2A-6C6B-4BC2-9441-FBABB4CA722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7090B129-0335-406F-8370-2C563D13302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6E271A8B-7502-42AB-8BC0-791B6E15CBC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F91E8821-C89B-4982-8483-26649922485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49AD191E-2F16-45B6-BC77-B5BA7FEA763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9B234972-1D2A-4701-AA5A-A4319184E58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06A40AB0-436C-44AF-B8E0-2BC89613AD8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9576E783-4351-47CD-8453-CD667E50A831}"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E94BE7D0-FE0A-4C78-B00E-164F8AA91117}"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01BEEB5B-04F6-4E71-BA8F-02DDA4464234}"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C3B59133-1BA2-4F48-BC20-F71C90CED920}"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6450EF26-5385-43AB-A514-9D8E62F3FD1D}"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6578A690-9B03-47C4-A91A-6325D8B1A0F8}"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B08C1CD2-65EA-4C07-892F-4C062BC98E4D}"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A60EA156-04B9-4DDA-AD9F-1B31BD04BDB1}"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3A13CBE6-5964-4836-8B48-2A70F7991BA2}"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0F39E94A-9E00-49B1-87B7-5D8DFF39B294}"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41BFE525-28FC-4377-AA6D-B85595290EC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EE1E4A-E561-4C3E-9AC4-FDDD54E4201A}"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66FECC-6BAE-4364-8E50-F92F2094B2E7}"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D8CC06-8BA9-4470-ABED-EBA42765E26D}"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2E3111-4D12-4632-B3AA-38B710D31E23}"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3D3EA4-1E37-4274-A85A-E7B9FE35C58F}"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645849-993E-4C57-B84D-5C80DCE567BD}"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B00576-B19A-4917-917E-017CA517E601}"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038A22-C4E9-467D-92F4-73F234738171}"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E49A32-00AD-43C9-A9CF-5071262E310B}"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7E040D-3E1D-4150-B529-0CD68722A8AF}"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