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F42D5F6-8927-4E3F-AC9C-ECDF5E67EBD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3610403D-BAAB-4791-A9ED-A3A549D31E7C}"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E748A5D9-608C-495F-A814-07C8853B994E}"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C632BF08-4DD1-4A04-8218-209E4ACA8C1D}"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5AB861CD-FD7E-4C5F-B6EE-78BCD8E2F932}"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E66B1111-59A1-4065-B7B2-846A2DC94891}"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7691ECB0-7FE4-40F3-84CA-A09ACDB2378B}"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27C08189-9296-42F4-9F2D-B4DDB704811D}"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AB8B2FAE-5DA9-4A2A-843C-3A699D30DB12}"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7F563878-CBEB-4F87-9A67-70CD9F56FB11}"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5F541FFF-1C5B-46F0-9439-55A406873C36}"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12D18E4-7BA5-4CFC-97D5-86F80C37CBC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D97486EC-D90E-4F73-8C07-C018D577F8BD}"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5AF21BCA-5139-4CA3-9247-A495C680564E}"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4FCCE948-6925-4E9A-B9B5-F438DB0A4256}"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5B956C86-2EF4-485E-9A15-9BC46ADC622F}"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EC0E46A0-0EC0-4D77-893E-9679EF3ED4F7}"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6E658896-FBAC-48F5-B462-960696B85466}"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885D7E95-50F5-473B-AE13-A6D4A09B5F23}"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A68BEE8F-D790-448E-A981-23EDDDE7896B}"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8BE3A3D2-84AF-4A21-823B-0322DCBC5018}"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4E1BE174-ACDB-4992-84BB-ACDBF760D656}"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E6333088-1E1C-4659-8F17-B6C18FCFBCB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983ED2B6-BAA6-443A-9C2B-10FB6DDCF9CA}"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11D8A578-885D-423B-982A-ECF41198A002}"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BDF1F527-16F0-414E-8530-62CD4EFF9365}"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A84AF73A-3F71-43CB-99B8-7EC7182A10C7}"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52C9B8B6-BB47-425F-A8CC-802D6A719B12}"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4C63C4CC-E3F5-444B-90A6-3B30C34A37EF}"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75FFEB24-4762-4881-9A4A-FDB3C9D56C7C}"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A630D80B-39CC-42AE-9A43-6790B72CA7E4}"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E0A7C81A-5E10-4558-B947-5D0F23007F6F}"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E0DE0A7D-0DDF-4467-BF2D-BEDCC3B3AE0B}"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7CEBFA81-D39F-42E8-AAFA-2203C310491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3F725CA-3CE9-43B7-BB0A-A3008AE1888C}"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4F48629D-B39B-4DBA-827A-BC5E013AF4EA}"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2095B170-C178-45F5-AE0A-B0F27672F5CB}"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7FCD1A9A-6637-462A-9A7E-8D873DF5F94F}"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6D0CECB3-DF97-438D-BB25-9EFCA878A3BC}"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574287B6-BB36-4F22-9CF2-6A473E38A16D}"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38E6C2FF-B9D9-4ABB-A8B8-4F262622CB7A}"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1411CE09-5734-44A5-AE50-93F558956671}"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29FF004E-7E75-4909-BD9A-97B7CF72717E}"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EF5C95C3-4114-462C-BD80-184196A2B970}"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54EC7D12-2221-4B1F-B9AE-682515E608C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091B25A9-FD5A-454B-9C93-58E2ADD9CD5F}"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65A37B90-DABC-4EA5-8902-3A1C7623AF1C}"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5AEFD9B0-0F0B-41F0-A9C6-D733C2B4C6BD}"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81DE84E0-FAFC-4792-BDB5-177D6E8BD425}"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DB0336E5-660C-4846-B36D-855E887F6330}"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C02C42FF-99A4-4D3E-8209-6092FF64844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7F4A3214-1AA4-439E-A188-7BF1A3D11C3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54021E37-387E-4A36-9C92-6E28FB2FF85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1391A5FE-0B97-49D3-A47C-58F56354D78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375FC696-15F7-46CC-830F-E550B8A30B1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E187EB0A-2564-40B2-BD70-89D6002039B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0258836F-FC10-4D85-BDE0-CA57266C27C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0C87E42B-9ECD-45A5-912D-E2FC97B189C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AD39CBF1-7237-48D7-A5B9-F7BCE01435A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23181135-F03E-495B-A7EB-D7F289435A2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E9E14DD1-4268-4F6A-8807-4895371387B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C65B7FAE-4392-421F-A334-D7DB9B28D816}"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C7F7D79A-9819-4665-AA3A-44C7299F6DF7}"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8FC7B74C-289F-4ECD-A2A7-03A993B25883}"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D89FBA61-5175-49F4-ADA3-A5CCB01650C5}"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D2CED38B-4261-4117-8086-58BA512D56D5}"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758E3883-931C-4F6A-ACF3-EE82108863FB}"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00813984-0A0C-4F6E-A432-98732A592F2D}"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FE36FBE9-0016-4165-BB87-11332E9AEF13}"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45F3D612-F664-4392-95EB-8E4146DF6F96}"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0A16869B-4DD1-4DCD-BD02-19C4845D8D4C}"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A6217BF0-768A-4534-AA1A-18EB6EED274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8CE3A-6CC2-4C74-81DB-854932B5A559}"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9B7B1-3A24-409A-B8D1-C033287C51EB}"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73129-4BB2-4863-A338-E04CC5E0B5B7}"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70EEA-1619-4E8A-A52A-0C23E7022111}"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6A500-D3E4-4AE2-9857-CAAAB866FBBE}"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2593F-0CC1-4454-BFB3-F497B21054C5}"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1226E-68C9-4A1A-98CE-897AE4282B3C}"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1968A-B478-4A50-95FA-28085DE7715C}"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DB7C4-3DB0-4E9E-9B15-64C530490528}"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9DF76-B7B4-4B3D-BFAE-D87FE3206EFF}"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